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336-E988-4E1F-BFA3-4CE6CA35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946-E9DA-4BA9-B14C-D825180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AD5-BCB0-40A8-9708-C5E9FD16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F42-DFDF-4DD0-90C9-5A2A505D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800-FC42-43CF-85AD-D93BAF10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12A-A99A-4E95-9C14-99C6DFF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C6E-64F6-4376-BBF9-65428187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5A2-CE9C-4DF6-8701-CD8808C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C84-58AB-4901-91D5-BB74FC0A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995-F697-41B0-89AD-6E3779A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35C-FD1C-4116-B58E-91484559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4E6-7575-4F36-B919-5D5CEAF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210E-77C8-49B5-849F-C4FAAA5A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mpawards.com/2001/american_pie_two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ugly_truth_ver2_xlg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mpawards.com/2004/saw_ver3_xlg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mpawards.com/2005/amityville_horror_xlg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: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develop understanding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how to apply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DIA LANGUAG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your cours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m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de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war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ook at the film pos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nnotations do you get from the mise-en-scene on your poster? Consider Setting, Props, Costume, Colour and Character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Return to Main Page for American Pie 2 Pos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25280"/>
            <a:ext cx="454536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The Ugly Truth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t's a Boy Girl Thing Poster"/>
          <p:cNvPicPr/>
          <p:nvPr/>
        </p:nvPicPr>
        <p:blipFill>
          <a:blip r:embed="rId1"/>
          <a:stretch/>
        </p:blipFill>
        <p:spPr>
          <a:xfrm>
            <a:off x="2190600" y="61920"/>
            <a:ext cx="4762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The Exorcist Poster"/>
          <p:cNvPicPr/>
          <p:nvPr/>
        </p:nvPicPr>
        <p:blipFill>
          <a:blip r:embed="rId1"/>
          <a:stretch/>
        </p:blipFill>
        <p:spPr>
          <a:xfrm>
            <a:off x="2382840" y="-22320"/>
            <a:ext cx="4618080" cy="68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Saw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5760" y="0"/>
            <a:ext cx="474516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he Amityville Horror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9600" y="189000"/>
            <a:ext cx="4626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rthes and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hat imag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inforced cultural my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rough their co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x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dea in that this served to empower those in econo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defin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 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connotations)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red wine in French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rst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t is a dark, red bottle signifying it is a bottle of w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 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“Bourgeois” take this signifier and apply their own (sometimes incorrect) emphasis to it, making wine a new signifier of a healthy dr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what symbolism would your target audience “read” into the images in your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thusser and Interp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thought the recognition (interpellation) of ideology turned individuals in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come bound to the ideology - they do not question it because it appear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what ideological values do your media texts con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“media languag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ng key media theories to your coursework, especi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moder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x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language to describe conventions you have used or not (or subverted), especially in relation to 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4920" y="1747440"/>
            <a:ext cx="820908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udy of sig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think of any examples of signs or symb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you define a sign or a sym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ngs that represent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otation and De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actually see (e.g. a rose is a red 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something might stand for or represent (e.g. to give someone a red rose might suggest lo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ise-en-scene in your trailer, poster and magazine can connote complex ideas to the viewer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ok at the following colours – what connotations do they have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semiot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ony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when one sign represents a greater whole. For example the statue of liberty is a sign that represent the US as a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mbolis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visual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chorag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ext that is used to assist in the reading of the image- anchors th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a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rm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c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h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g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g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ood l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nv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nquil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ean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ophist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orm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leg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y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der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58:21Z</dcterms:created>
  <dc:creator>#</dc:creator>
  <dc:description/>
  <dc:language>en-US</dc:language>
  <cp:lastModifiedBy>ms</cp:lastModifiedBy>
  <dcterms:modified xsi:type="dcterms:W3CDTF">2011-05-12T12:14:06Z</dcterms:modified>
  <cp:revision>11</cp:revision>
  <dc:subject/>
  <dc:title>Semiotics</dc:title>
</cp:coreProperties>
</file>